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A252-757B-4289-A2FF-52617549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7DB3-F479-4BFF-A2F8-56A8793B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3EF3-94C0-40BF-AF93-1B59BB63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2EDA-A902-4772-9AE4-5B845C52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00C-E951-435D-8943-24672AFA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F0B5-3029-4053-8DE7-1A6C6722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06B8-8901-4AD7-B7CD-4384B90E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CF18-B09C-43CC-8FDE-EE49A58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E494-3D3F-43DC-9579-54A1225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0E52-C73D-4581-8F89-D1581E8C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67C-4699-4557-AB4E-34A9344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964D-E7FF-463A-BB2E-D58A1183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6F90-8C6E-4CFC-822E-043E330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92CF-8B9B-485F-8B16-5B158F2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2661-E640-49E8-8CF4-B769CE6E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069-E1AC-4E02-8F0A-9EB0DCDF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3AB9-C6BE-44D2-80BC-E8B44383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26B0-ADA4-42FB-97B3-88155CB0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5FF8E-E734-4830-B640-E6B3A037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9F05-1911-4ADB-AFCE-CB413CB7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E433-1B8F-4166-A13D-65430970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F644-6DF2-4AA2-9762-13E7A690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A03F3-FF26-4A8A-90CF-E3D83DDE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3119-3134-49B9-BFF6-0BD230B3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080" y="6354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SCEE Technology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43400" y="63244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BC4A-7720-456F-A36C-DEC8878FF4FF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981080" cy="94428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8381880" y="6172200"/>
            <a:ext cx="762120" cy="685440"/>
            <a:chOff x="8381880" y="6172200"/>
            <a:chExt cx="762120" cy="685440"/>
          </a:xfrm>
        </p:grpSpPr>
        <p:pic>
          <p:nvPicPr>
            <p:cNvPr id="8" name="PSX" descr=""/>
            <p:cNvPicPr/>
            <p:nvPr/>
          </p:nvPicPr>
          <p:blipFill>
            <a:blip r:embed="rId3"/>
            <a:stretch/>
          </p:blipFill>
          <p:spPr>
            <a:xfrm>
              <a:off x="8381880" y="6172200"/>
              <a:ext cx="6944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R" descr=""/>
            <p:cNvPicPr/>
            <p:nvPr/>
          </p:nvPicPr>
          <p:blipFill>
            <a:blip r:embed="rId4"/>
            <a:stretch/>
          </p:blipFill>
          <p:spPr>
            <a:xfrm>
              <a:off x="9085320" y="6796440"/>
              <a:ext cx="58680" cy="61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984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163920" y="6338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0105-3E2F-4F34-B9E0-5E351FFF45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2920" y="2081160"/>
            <a:ext cx="1482480" cy="17733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238880" y="2133720"/>
            <a:ext cx="1752120" cy="1675800"/>
            <a:chOff x="7238880" y="2133720"/>
            <a:chExt cx="1752120" cy="1675800"/>
          </a:xfrm>
        </p:grpSpPr>
        <p:pic>
          <p:nvPicPr>
            <p:cNvPr id="52" name="PSX" descr=""/>
            <p:cNvPicPr/>
            <p:nvPr/>
          </p:nvPicPr>
          <p:blipFill>
            <a:blip r:embed="rId3"/>
            <a:stretch/>
          </p:blipFill>
          <p:spPr>
            <a:xfrm>
              <a:off x="7238880" y="2133720"/>
              <a:ext cx="159660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" descr=""/>
            <p:cNvPicPr/>
            <p:nvPr/>
          </p:nvPicPr>
          <p:blipFill>
            <a:blip r:embed="rId4"/>
            <a:stretch/>
          </p:blipFill>
          <p:spPr>
            <a:xfrm>
              <a:off x="8856360" y="3659400"/>
              <a:ext cx="134640" cy="1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XM (Extended MOD) Player.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92240" y="2069640"/>
            <a:ext cx="516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oding by Jason Page at SCE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vailable to all licensed developer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lls includ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nitialise VAB and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lls includ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nitialise VAB and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lay, Stop, Pause, Restart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lls includ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nitialise VAB and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lay, Stop, Pause, Restart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t individual channel volume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lls includ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nitialise VAB and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lay, Stop, Pause, Restart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t individual channel volume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Get current song statu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activ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lls includ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ng jump to user specified positi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activ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alls includ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ng jump to user specified positi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osition picked up at end of current patter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Not meant to replace LibSPU or LibSND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Not meant to replace LibSPU or LibSND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in update routine called once every 50/60 fp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Not meant to replace LibSPU or LibSND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in update routine called once every 50/60 fp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No interrupt used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t up your own interrupt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VSyncCallback(XM_Update);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ximum 8 XM files initialised at onc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XM Player 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 new music and sound effects player for the PlayStation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s existing composition tools available on the PC (and Mac?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ximum 8 XM files initialised at onc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ast(?) processing tim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etween 1 - 2 Scan lines per chann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itialise the player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XM_OnceOffInit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(XM_NTSC);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ABID=PSX_Init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(VAB_Header,VAB_Body);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itXMData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(XM_Address,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XM_ID,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XM_UseXMPanning);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SyncCallback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(XM_Update);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laying Music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SF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ong_ID=XM_Init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(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VAB_ID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XM_ID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First_SPU_Channel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XM_Loop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it_Mask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XM_Music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SFX_Pattern / Song_Start_Offset);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XM2PSX Conversion tool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Windows based too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reate VAB fil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create Single/Looping and/or Ping-Pong sample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(Still need to VABSplit the file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Output samples as VAG’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XM2PSX Conversion tool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reate a new XM fil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1) Original XM file without sample data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2) Super compressed XM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uture updates to includ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verb effect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dify depth, turn reverb on/off for individual channel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Conclud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Outstanding chip mus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Original sound effect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ast Processing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ankyou…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, Why bother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ore games using chip mus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OD’s make the most out of chip based music?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ore detailed control over sound effects 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erview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layback XM tracker module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lay up to 24 channel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95% of commands function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ny sample effect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laying of sound effect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dependent volume control over individual channels. (Interactive!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erview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orry - you can work out how to write MOD files yourselves!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 use Fast Tracker 2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mple Effects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olum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anning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itch bend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rpeggi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ortament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ibrato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ample Effects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mplitude AND panning envelope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odify sample start offset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und Effects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lays selected channels of a single pattern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ngle or multi channel SFX with one call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llows use all of the sample effects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llows more use of a single sample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(Explosion used for a laser etc.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age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ses the LibSPU library onl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Key On,Set Volume, Set Pitch, Get Key Status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itialising SPU is left up to the user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5:10:32Z</dcterms:created>
  <dc:creator>Sony</dc:creator>
  <dc:description/>
  <dc:language>en-US</dc:language>
  <cp:lastModifiedBy>SONY</cp:lastModifiedBy>
  <dcterms:modified xsi:type="dcterms:W3CDTF">1998-09-01T16:50:06Z</dcterms:modified>
  <cp:revision>23</cp:revision>
  <dc:subject/>
  <dc:title>XM (Extended MOD) Pla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pholman.wav.scee.sony.co.uk/</vt:lpwstr>
  </property>
  <property fmtid="{D5CDD505-2E9C-101B-9397-08002B2CF9AE}" pid="9" name="LinkColor">
    <vt:r8>16711782</vt:r8>
  </property>
  <property fmtid="{D5CDD505-2E9C-101B-9397-08002B2CF9AE}" pid="10" name="MailAddress">
    <vt:lpwstr>Paul_Holman@playstation.sony.com</vt:lpwstr>
  </property>
  <property fmtid="{D5CDD505-2E9C-101B-9397-08002B2CF9AE}" pid="11" name="NavBtnPos">
    <vt:r8>3</vt:r8>
  </property>
  <property fmtid="{D5CDD505-2E9C-101B-9397-08002B2CF9AE}" pid="12" name="Other">
    <vt:lpwstr>Created by "Save as HTML" Option in Powerpoint</vt:lpwstr>
  </property>
  <property fmtid="{D5CDD505-2E9C-101B-9397-08002B2CF9AE}" pid="13" name="OutputDir">
    <vt:lpwstr>d:\tem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