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8E214-83C1-4503-8DE0-7DCD91C65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81600"/>
            <a:ext cx="77724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67144-9EBE-42BD-B91F-C68906E07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816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A8376-94EA-4996-9C26-468B9894B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8160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8160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8160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7D57B-1B2B-4E86-8F8E-5EC06E659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5378B-06EC-4BDB-A2AB-658F40820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C643F-26DE-424B-812B-5B5846BFF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78DEB-A54A-421B-A37B-D363CE1C4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8D3E2-4CA7-4086-B01E-3050E2AB2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F9ACD-59B4-40C8-94C4-9FD5ABCE6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81080" y="304560"/>
            <a:ext cx="6858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38876-D408-48A7-B223-4E5FC0085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B403F-4B38-4F6F-A80C-4F99F5894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70AA0-A7ED-43FF-9901-1A4F290C2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92160" y="39816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F9E04-0660-49D1-8A22-ECA7D6DEE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77724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BCE00-E679-4EF8-B9FE-144651F7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81600"/>
            <a:ext cx="77724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87CF8-863A-46E5-84CB-6FF9AB7FB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92160" y="39816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810C7-11AB-47F8-84A6-19C7AD0C9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8160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7480" y="398160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865120" y="398160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315D3-8430-4FEF-9150-CDD47D3B1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30B92-E466-429E-B445-F97DCA75B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CA2F0-77CB-4649-A9B5-74C9EBAB4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176A3-59A0-4840-BDC8-219D0D781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981080" y="304560"/>
            <a:ext cx="6858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59D3E-7D82-49A0-8AC3-A65D55F68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7920C-837B-4DE6-B063-77D08B77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816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6D284-927E-4683-AA98-3306E6319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77724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EB53D-BA44-4A67-BE4F-5C22B0D9B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d4c9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523880"/>
            <a:ext cx="9131400" cy="1144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0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3" marL="1562040" indent="-228600">
              <a:spcBef>
                <a:spcPts val="700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4" marL="1981080" indent="-228600">
              <a:spcBef>
                <a:spcPts val="700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5" marL="1981080" indent="-228600">
              <a:spcBef>
                <a:spcPts val="700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6" marL="1981080" indent="-228600">
              <a:spcBef>
                <a:spcPts val="700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9080" y="6354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dddddd"/>
                </a:solidFill>
                <a:latin typeface="Arial"/>
              </a:rPr>
              <a:t>&lt;date/time&gt;</a:t>
            </a:r>
            <a:r>
              <a:rPr b="0" lang="en-GB" sz="1400" spc="-1" strike="noStrike">
                <a:solidFill>
                  <a:srgbClr val="dddddd"/>
                </a:solidFill>
                <a:latin typeface="Arial"/>
              </a:rPr>
              <a:t>SCEE Technology Grou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4343400" y="6324480"/>
            <a:ext cx="380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2F5A1-E579-4F87-9C13-E1ACDA15F435}" type="slidenum">
              <a:rPr b="0" lang="en-GB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304920"/>
            <a:ext cx="1981080" cy="944280"/>
          </a:xfrm>
          <a:prstGeom prst="rect">
            <a:avLst/>
          </a:prstGeom>
          <a:ln w="0">
            <a:noFill/>
          </a:ln>
        </p:spPr>
      </p:pic>
      <p:grpSp>
        <p:nvGrpSpPr>
          <p:cNvPr id="7" name=""/>
          <p:cNvGrpSpPr/>
          <p:nvPr/>
        </p:nvGrpSpPr>
        <p:grpSpPr>
          <a:xfrm>
            <a:off x="8381880" y="6172200"/>
            <a:ext cx="762120" cy="685440"/>
            <a:chOff x="8381880" y="6172200"/>
            <a:chExt cx="762120" cy="685440"/>
          </a:xfrm>
        </p:grpSpPr>
        <p:pic>
          <p:nvPicPr>
            <p:cNvPr id="8" name="PSX" descr=""/>
            <p:cNvPicPr/>
            <p:nvPr/>
          </p:nvPicPr>
          <p:blipFill>
            <a:blip r:embed="rId3"/>
            <a:stretch/>
          </p:blipFill>
          <p:spPr>
            <a:xfrm>
              <a:off x="8381880" y="6172200"/>
              <a:ext cx="694440" cy="68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R" descr=""/>
            <p:cNvPicPr/>
            <p:nvPr/>
          </p:nvPicPr>
          <p:blipFill>
            <a:blip r:embed="rId4"/>
            <a:stretch/>
          </p:blipFill>
          <p:spPr>
            <a:xfrm>
              <a:off x="9085320" y="6796440"/>
              <a:ext cx="58680" cy="612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d4c9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52400" y="209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9840" y="6267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dddddd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6163920" y="6338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dddddd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E429B-4C99-4049-AD68-3B9948ECA48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12920" y="2081160"/>
            <a:ext cx="1482480" cy="17733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7238880" y="2133720"/>
            <a:ext cx="1752120" cy="1675800"/>
            <a:chOff x="7238880" y="2133720"/>
            <a:chExt cx="1752120" cy="1675800"/>
          </a:xfrm>
        </p:grpSpPr>
        <p:pic>
          <p:nvPicPr>
            <p:cNvPr id="52" name="PSX" descr=""/>
            <p:cNvPicPr/>
            <p:nvPr/>
          </p:nvPicPr>
          <p:blipFill>
            <a:blip r:embed="rId3"/>
            <a:stretch/>
          </p:blipFill>
          <p:spPr>
            <a:xfrm>
              <a:off x="7238880" y="2133720"/>
              <a:ext cx="1596600" cy="167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R" descr=""/>
            <p:cNvPicPr/>
            <p:nvPr/>
          </p:nvPicPr>
          <p:blipFill>
            <a:blip r:embed="rId4"/>
            <a:stretch/>
          </p:blipFill>
          <p:spPr>
            <a:xfrm>
              <a:off x="8856360" y="3659400"/>
              <a:ext cx="134640" cy="150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dddddd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dddddd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dddddd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d4c9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2400" y="209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dvanced PlayStation Audio ‘98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992240" y="2069640"/>
            <a:ext cx="516096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Libspu optimizations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Introduction to libmidi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Rob Vawter SCE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d4c9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libspu - Voice Allocation Tip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Set once per frame (or less) 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Voice free flag (vf_flag)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Is the voice allocable?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Envelope on/off flag (env_flag)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Is the voice playing data?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One-shot expiry flag (exp_flag)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Has one-shot voice naturally expired?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nko_flag and exp_flag combine to resolve SPU_ON_ENV_OFF ambiguity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d4c9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libspu - Voice Allocation Tip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Once per frame (or less often)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Push key on/off queue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Skip lp_flag low &amp; nko_flag low voices 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Check envelope state 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Fill env_flag using SpuGetVoiceEnvelope()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If env_flag low &amp; vo_flag high 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Set exp_flag high OR 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If exp_flag already high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lvl="3" marL="1436760" indent="-210240">
              <a:spcBef>
                <a:spcPts val="451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rial"/>
              </a:rPr>
              <a:t>Clear exp_flag &amp; Clear vo_flag</a:t>
            </a:r>
            <a:endParaRPr b="0" lang="en-US" sz="1800" spc="-1" strike="noStrike">
              <a:solidFill>
                <a:srgbClr val="dddddd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Determine vf_flag with env_flag &amp; vo_flag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Clear nko_flag &amp; exp_flag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d4c9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libspu - Keying Sounds On/Off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Problems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Key on/off commands may be missed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Key on/off queue contains high bits for voices which must be keyed on or off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Old queue is flushed out 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SPU registers only read every 1/44,000 second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Cycles wasted 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Voices reallocated before playback begins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Solution - queue ALL key on/off commands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d4c9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libspu - Keying Sounds On/Off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Create two additional 24-bit variables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keyoff_flag&amp; keyon_flag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In key on function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Bit OR keyon_flag &amp; clear keyoff_flag bit 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Bit OR nko_flag 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Bit OR lp_flag if looping sound 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Do NOT call SpuSetKey()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d4c9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libspu - Keying Sounds On/Off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In key off function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Bit OR keyoff_flag &amp; clear keyon_flag bit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Clear nko_flag bit for that voice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Clear lp_flag bit for that voice 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Do NOT call SpuSetKey()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Once per frame, before voice status check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SpuSetKey(SPU_ON, keyon_flag)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SpuSetKey(SPU_OFF, keyoff_flag)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d4c9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libmidi - Increased Functionality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nel-level pitch bend changes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es may be bent INTO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PN data 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PN 0 (pitch bend max and min setting)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PN 1 (tone shift changes) 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PN 2 (tone center changes)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mper changes on a channel level, rather than a global level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t all controllers supported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d4c9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libmidi - Increased Functionalit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ng level pan shift/time effe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ilar to a crescendo/ decrescendo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ice level note shift/time effect 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ppler type effect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rrent tempo of songs retrievable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cellation of transfer to SPU RAM 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sVabTransBodyPartly() does not support this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brato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rtamento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d4c9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libmidi - Increased Functionality 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sted song loops 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rrent tempo retrievable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cellation of time-based effects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orts back the amount of effect and time remaining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lume, pan, tempo (song level only), pitch (voice level only)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d4c9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libmidi - New File Format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MAB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Reduced structure sizes 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VabHdr level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ProgAtr level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VagAtr level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Vag Offset Table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Unused tone slots not stored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MEQ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Loop marker &amp; callback marker messages reduced to one message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File size reduced and MIDI time conserved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d4c9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libmidi - Linkable Function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SPU RAM management 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Use libspu standard SPU RAM management functions OR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Create smaller or “best-fit” functions OR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Hardcode all transfers to minimize code size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Pitch calculation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Use library standard function OR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Create larger PLU table for more precision or smaller PLU table for less code size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d4c9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libspu - Volume Mode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SPU master volume and voice volume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Range -0x4000 to 0x3fff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CD input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Range -0x8000 to 0x7fff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Direct volume mode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Volume is set to input parameter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Negative volumes allow for 3D Sound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X360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d4c9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libmidi - Linkable Functions 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Volume calculation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Least complex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Requested level volume and pan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Medium complexity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Requested and tone level of volume and pan 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Exponential left/right separation of song voices  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Most complex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Requested, tone, program, and bank levels of volume and pan 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Exponential left/right separation of song voices  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d4c9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libmidi - Linkable Functions 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Voice allocation 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First available voice &amp; priority-based system 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Addition of envelope size &amp; age 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Low-level MIDI functions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d4c9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ore libmidi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Reduced structure sizes 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Song management table 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Voice management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Reduced tick callback cycle usage 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Not wrapped around libspu calls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Data transfer to SPU registers only if necessary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Fewer  I-cache misses at tick callback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Standardization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Key on commands take volume and pan  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Easier to pan voices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Seq/Sep duality removed - extra wrapper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d4c9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libmidi - Tools 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Initially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seq2meq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VAB2MAB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Coming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smf2meq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MABmaker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d4c9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libspu - Volume Mode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Exponential &amp; linear volume modes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Increase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Decrease 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Normal phase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Reverse phase (for negative volumes)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Ramps from current level to 0 or maximum volume in </a:t>
            </a:r>
            <a:r>
              <a:rPr b="0" lang="en-US" sz="2400" spc="-1" strike="noStrike" u="sng">
                <a:solidFill>
                  <a:srgbClr val="dddddd"/>
                </a:solidFill>
                <a:uFillTx/>
                <a:latin typeface="Arial"/>
              </a:rPr>
              <a:t>hardware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d4c9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libspu - Volume Mode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Exponential &amp; linear volume modes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Parameter determines ramp speed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0 is instantaneous (or nearly so)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Below ~0x28, an inverse value is added per tick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~0x3f increases the volume 4-7 points per 16 ticks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&gt;~0x3f, the same volume increase takes more ticks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0x7f is infinite (or nearly so)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Verify correct mode-sign combination 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d4c9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libspu - Volume Mode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Exponential &amp; linear volume modes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SpuGetVoiceVolume() returns input parameters  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SpuGetVoiceVolumeX() returns actual volume 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Scales volumes from -0x8000 to 0x7fff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Can stop an effect very near a desired point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Set a timer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SpuGetVoiceVolume(voice, &amp;voll, &amp;volr )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SpuSetVoiceVolumeAttr(voice, voll&gt;&gt;1, volr&gt;&gt;1, </a:t>
            </a: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SPU_VOICE_DIRECT, SPU_VOICE_DIRECT)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d4c9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libspu - Voice Allocation Tip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Methods of testing voice status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SpuGetKeyStatus()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SpuGetAllKeysStatus()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SpuRGetAllKeysStatus()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Components of voice status 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Software key on/off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Envelope playback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d4c9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libspu - Voice Allocation Tips 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Voice status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SPU_ON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Keyed on, voice actively playing 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SPU_OFF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Keyed off in software, voice finished playing 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SPU_ON_ENV_OFF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Keyed on, voice not yet playing OR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Keyed on, one shot VAG expired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SPU_OFF_ENV_ON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Keyed off in software, release state entered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d4c9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libspu - Voice Allocation Tips 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Possible problems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SPU_ON_ENV_OFF state ambiguous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SPU registers only flushed every 1/44,000 second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Wasted cycles occur if voice status checked every allocation 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Solution - create a new voice status check and voice allocation scheme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d4c9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libspu - Voice Allocation Tips 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Set in key on/off functions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Voice on/off flag (vo_flag)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Tracks software key on/off 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Newly keyed on flag (nko_flag)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Flags voice for first frame of key on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Looping voice flag (lp_flag)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Sound data structure must include loop info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2T02:14:04Z</dcterms:created>
  <dc:creator>Rob Vawter</dc:creator>
  <dc:description/>
  <dc:language>en-US</dc:language>
  <cp:lastModifiedBy>Rob Vawter</cp:lastModifiedBy>
  <dcterms:modified xsi:type="dcterms:W3CDTF">1998-06-05T09:11:38Z</dcterms:modified>
  <cp:revision>21</cp:revision>
  <dc:subject/>
  <dc:title>Advanced PlayStation Audio ‘98</dc:title>
</cp:coreProperties>
</file>