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D6A5-BFFB-49F1-A16E-A4B2DCB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22FD-CABA-4B3D-99BC-62928CDF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270E-24EA-4A6B-BA1A-CEC47C83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F815-7B7E-4B5D-AEEB-0A4BD47C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D52-E1E0-40E4-AF97-DEE425B3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1CF0-D5F9-49E7-B62E-787886E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A53A-3A55-492E-A8BF-45C34842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087F-1D06-4677-AF3B-FEA473AD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BC22-8BA1-4804-952C-4BDCE9A5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5CC6-D7EB-4AD3-B3EE-971BB9E0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1F8-A513-4F23-8351-D9560E9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1FC5-12D5-4A64-8F83-43AD0329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1F43-EA72-4130-8391-D534895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7AAC-18A8-4960-8C83-C5DAEB77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032C-500F-43BA-9C70-1B76364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05E2-D661-4378-AC9B-96A58C3C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748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5120" y="39816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FFE5-B198-4978-9789-3A9FC545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EDB62-E7FA-45A5-AC16-00D14FB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4643-A722-44DE-BC8F-4A33FAF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3D8E-CA43-42D2-8A17-A113EDD7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2CFD-6B9C-4B44-B497-B872BC2C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1E49-D802-4314-B6BF-A4D7244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816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D3ABA-A10B-4E4F-9F40-D3B496D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0120-E4FB-43EB-AAF6-06EB07EC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9080" y="6354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SCEE Technology Gro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43400" y="632448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179B-74AF-48F7-AF21-9D3B84B34B3E}" type="slidenum">
              <a:rPr b="0" lang="en-GB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1981080" cy="94428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8381880" y="6172200"/>
            <a:ext cx="762120" cy="685440"/>
            <a:chOff x="8381880" y="6172200"/>
            <a:chExt cx="762120" cy="685440"/>
          </a:xfrm>
        </p:grpSpPr>
        <p:pic>
          <p:nvPicPr>
            <p:cNvPr id="8" name="PSX" descr=""/>
            <p:cNvPicPr/>
            <p:nvPr/>
          </p:nvPicPr>
          <p:blipFill>
            <a:blip r:embed="rId3"/>
            <a:stretch/>
          </p:blipFill>
          <p:spPr>
            <a:xfrm>
              <a:off x="8381880" y="6172200"/>
              <a:ext cx="694440" cy="68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R" descr=""/>
            <p:cNvPicPr/>
            <p:nvPr/>
          </p:nvPicPr>
          <p:blipFill>
            <a:blip r:embed="rId4"/>
            <a:stretch/>
          </p:blipFill>
          <p:spPr>
            <a:xfrm>
              <a:off x="9085320" y="6796440"/>
              <a:ext cx="58680" cy="61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9840" y="6267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6163920" y="6338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2D7-2B7E-4F5C-B084-E0376E49A3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2920" y="2081160"/>
            <a:ext cx="1482480" cy="17733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238880" y="2133720"/>
            <a:ext cx="1752120" cy="1675800"/>
            <a:chOff x="7238880" y="2133720"/>
            <a:chExt cx="1752120" cy="1675800"/>
          </a:xfrm>
        </p:grpSpPr>
        <p:pic>
          <p:nvPicPr>
            <p:cNvPr id="52" name="PSX" descr=""/>
            <p:cNvPicPr/>
            <p:nvPr/>
          </p:nvPicPr>
          <p:blipFill>
            <a:blip r:embed="rId3"/>
            <a:stretch/>
          </p:blipFill>
          <p:spPr>
            <a:xfrm>
              <a:off x="7238880" y="2133720"/>
              <a:ext cx="159660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R" descr=""/>
            <p:cNvPicPr/>
            <p:nvPr/>
          </p:nvPicPr>
          <p:blipFill>
            <a:blip r:embed="rId4"/>
            <a:stretch/>
          </p:blipFill>
          <p:spPr>
            <a:xfrm>
              <a:off x="8856360" y="3659400"/>
              <a:ext cx="134640" cy="15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dddddd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2400" y="20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 Narrow"/>
              </a:rPr>
              <a:t>Win’95/NT hosted PlayStation CD Emula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92240" y="2069640"/>
            <a:ext cx="51609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om Charlesworth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N Systems Lt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17680" y="2521080"/>
            <a:ext cx="4464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Windows CD tool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D Controller for feedback, control &amp; cutt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D Explorer for image creation &amp; maintenan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Controll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Provides real-time feedback when emulating or cutt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bility to select alternative CD imag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Management of </a:t>
            </a:r>
            <a:r>
              <a:rPr b="0" lang="en-GB" sz="2800" spc="-1" strike="noStrike">
                <a:solidFill>
                  <a:srgbClr val="dddddd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-controller BIO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Controller: Cutting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dddddd"/>
              </a:solidFill>
              <a:latin typeface="Garamond"/>
            </a:endParaRPr>
          </a:p>
        </p:txBody>
      </p:sp>
      <p:pic>
        <p:nvPicPr>
          <p:cNvPr id="118" name="cdctrl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55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xplor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D image managemen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Windows Explorer-style GUI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Full drag-and-drop suppor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Background file copy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xplor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utomatically refreshes image when source files are modifie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Ghost hunt for lost fil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upport for ISO-9660 standar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xtended support specifically for PlayStation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xplorer: Main 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25" name="cdexp0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648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xplorer: Primary Volum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28" name="cdexp2_1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0086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xplorer: File Properti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31" name="cdexp1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4008600" cy="3221280"/>
          </a:xfrm>
          <a:prstGeom prst="rect">
            <a:avLst/>
          </a:prstGeom>
          <a:ln w="0">
            <a:noFill/>
          </a:ln>
        </p:spPr>
      </p:pic>
      <p:pic>
        <p:nvPicPr>
          <p:cNvPr id="132" name="cdexp3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26971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vailabil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For further information on pricing an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vailability, please contact Tim Flett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(Tim_Flett@interactive.sony.com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D Emulation histor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Overview of new CD emulato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D Emulator hardwar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Windows CD tool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- CD Controll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- CD Explor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vailabilit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mulation Histo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Old emulator: 16-bit, DO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cript writing was a black ar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Updating image was slow and problematic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No NT support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ndecipherable feedback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verview of new emula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2 models of emulator available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DTL-S2900: External unit connected to PC via PCI SCSI controll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DTL-S2910: Internal board is ISA PnP. Designed to fit into the ISA slot of the old emulator (DTL-S2020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verview of new emula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PnP installation - no jumper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Advanced Windows 95/NT-based CD emulation system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Removal of all significant image build process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Overview of new emulator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upports Win95/NT drag &amp; drop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Background file-copy processing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Option to automatically cut a CDR disc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D Emulation hardwa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External CD Emulation unit (DTL-S2900)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At the top is the Emulation hardwar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   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providing feedback via the LCD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Below this is the removable driv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    </a:t>
            </a:r>
            <a:r>
              <a:rPr b="0" lang="en-GB" sz="2800" spc="-1" strike="noStrike">
                <a:solidFill>
                  <a:srgbClr val="dddddd"/>
                </a:solidFill>
                <a:latin typeface="Arial Narrow"/>
              </a:rPr>
              <a:t>ba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06" name="em_cut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603520" cy="2502000"/>
          </a:xfrm>
          <a:prstGeom prst="rect">
            <a:avLst/>
          </a:prstGeom>
          <a:ln w="0">
            <a:noFill/>
          </a:ln>
        </p:spPr>
      </p:pic>
      <p:cxnSp>
        <p:nvCxnSpPr>
          <p:cNvPr id="107" name=""/>
          <p:cNvCxnSpPr>
            <a:stCxn id="105" idx="0"/>
          </p:cNvCxnSpPr>
          <p:nvPr/>
        </p:nvCxnSpPr>
        <p:spPr>
          <a:xfrm>
            <a:off x="4419720" y="1676520"/>
            <a:ext cx="2160" cy="2160"/>
          </a:xfrm>
          <a:prstGeom prst="straightConnector1">
            <a:avLst/>
          </a:prstGeom>
          <a:ln w="12600">
            <a:solidFill>
              <a:srgbClr val="ddddd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Hardware fea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Dedicated (Windows-independent) micro-controller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2 SCSI bus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n addition, external unit (DTL-S2900) ha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LCD displa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Control button to select new CD imag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Removable HDD bay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d4c9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Hardware features (2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Targets: DTL-H2000/2500/2700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Support for SCSI HDD’s, removable drives (jaz) and approved Sony CDR’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ddddd"/>
                </a:solidFill>
                <a:latin typeface="Arial"/>
              </a:rPr>
              <a:t>Internal unit (DTL-S2910) also provides support for IDE drives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2:15:18Z</dcterms:created>
  <dc:creator>Tom</dc:creator>
  <dc:description/>
  <dc:language>en-US</dc:language>
  <cp:lastModifiedBy>Paul Holman</cp:lastModifiedBy>
  <cp:lastPrinted>1998-06-08T14:23:23Z</cp:lastPrinted>
  <dcterms:modified xsi:type="dcterms:W3CDTF">1998-06-08T14:54:36Z</dcterms:modified>
  <cp:revision>13</cp:revision>
  <dc:subject/>
  <dc:title>Win’95/NT hosted PSX CD Emulator</dc:title>
</cp:coreProperties>
</file>