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CE57E-7C5D-4C77-BB25-D9BF30A9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90E4-681A-4A1B-BD76-5254313C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18C8D-518A-457B-A096-08139740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8D4B0-77AC-424A-9B29-CF6CAA94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80FB-A746-41AB-A475-CD81749B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9450-3E45-4323-B023-FE9AE771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3F6F-FC55-4201-82DB-F5C91983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5D99-5BE7-4486-822E-2CFF4120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A0D7-C334-4FA4-82F1-7F48FC42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81080" y="30456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7DC7-EB02-4200-B5AB-08C1871E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8A11-E69C-4C16-B9FC-31DB374C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09833-A008-479A-9474-F058D6A8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405F-8839-4BCF-AD22-660F6ADE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CB61-5653-4CF6-A1EF-C16E32DD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7097-27EF-422C-85A7-68F24B07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222E-9084-41DF-8B5A-D9A99379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471B-7430-4D96-B1EE-7C6BEC7E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9C0DC-9620-433D-8A0F-1B9FE796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4B811-A1D3-4AB0-8C73-16C4C2D0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8AE1F-296D-4A3B-81AC-2B0D91B4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81080" y="30456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ED043-C9BB-4854-BE40-7D35B20D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174D4-95FB-42A5-8622-CD174A6C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DA3AD-FEEB-437C-843E-0C3E3D5E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948F0-2F79-45B6-9A72-411AD2AD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9080" y="6354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SN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43400" y="632448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999D-4DE0-42BB-BA28-040D8815784F}" type="slidenum">
              <a:rPr b="0" lang="en-GB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1981080" cy="94428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8381880" y="6172200"/>
            <a:ext cx="762120" cy="685440"/>
            <a:chOff x="8381880" y="6172200"/>
            <a:chExt cx="762120" cy="685440"/>
          </a:xfrm>
        </p:grpSpPr>
        <p:pic>
          <p:nvPicPr>
            <p:cNvPr id="8" name="PSX" descr=""/>
            <p:cNvPicPr/>
            <p:nvPr/>
          </p:nvPicPr>
          <p:blipFill>
            <a:blip r:embed="rId3"/>
            <a:stretch/>
          </p:blipFill>
          <p:spPr>
            <a:xfrm>
              <a:off x="8381880" y="6172200"/>
              <a:ext cx="694440" cy="68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R" descr=""/>
            <p:cNvPicPr/>
            <p:nvPr/>
          </p:nvPicPr>
          <p:blipFill>
            <a:blip r:embed="rId4"/>
            <a:stretch/>
          </p:blipFill>
          <p:spPr>
            <a:xfrm>
              <a:off x="9085320" y="6796440"/>
              <a:ext cx="58680" cy="61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2400" y="209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9840" y="6267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6163920" y="6338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25CB-B903-42EC-B8DB-6FEE3319AE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12920" y="2081160"/>
            <a:ext cx="1482480" cy="17733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7238880" y="2133720"/>
            <a:ext cx="1752120" cy="1675800"/>
            <a:chOff x="7238880" y="2133720"/>
            <a:chExt cx="1752120" cy="1675800"/>
          </a:xfrm>
        </p:grpSpPr>
        <p:pic>
          <p:nvPicPr>
            <p:cNvPr id="52" name="PSX" descr=""/>
            <p:cNvPicPr/>
            <p:nvPr/>
          </p:nvPicPr>
          <p:blipFill>
            <a:blip r:embed="rId3"/>
            <a:stretch/>
          </p:blipFill>
          <p:spPr>
            <a:xfrm>
              <a:off x="7238880" y="2133720"/>
              <a:ext cx="159660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R" descr=""/>
            <p:cNvPicPr/>
            <p:nvPr/>
          </p:nvPicPr>
          <p:blipFill>
            <a:blip r:embed="rId4"/>
            <a:stretch/>
          </p:blipFill>
          <p:spPr>
            <a:xfrm>
              <a:off x="8856360" y="3659400"/>
              <a:ext cx="134640" cy="15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2400" y="209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SN Systems Software Lt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3244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dddddd"/>
                </a:solidFill>
                <a:latin typeface="Arial"/>
              </a:rPr>
              <a:t>“</a:t>
            </a:r>
            <a:r>
              <a:rPr b="0" i="1" lang="en-GB" sz="2000" spc="-1" strike="noStrike">
                <a:solidFill>
                  <a:srgbClr val="dddddd"/>
                </a:solidFill>
                <a:latin typeface="Arial"/>
              </a:rPr>
              <a:t>Maximum effects, no side-effects”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John Robert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Gil Jaysmit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17680" y="2521080"/>
            <a:ext cx="446400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94" name="Prodg" descr=""/>
          <p:cNvPicPr/>
          <p:nvPr/>
        </p:nvPicPr>
        <p:blipFill>
          <a:blip r:embed="rId1"/>
          <a:stretch/>
        </p:blipFill>
        <p:spPr>
          <a:xfrm>
            <a:off x="2209680" y="2133720"/>
            <a:ext cx="4572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Build Manager Pan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1752480"/>
            <a:ext cx="38098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Folder view..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8968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5410080"/>
            <a:ext cx="3809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... Or Graphical View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3810240" cy="4267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438280" y="2362320"/>
            <a:ext cx="6429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Source Contro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First: add project to Source Control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724120" cy="2190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3600360" cy="2743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0" y="2743200"/>
            <a:ext cx="380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Then: check files out when you need to work with them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419112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Works with Microsoft SourceSafe v5.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02320" indent="-20232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Other SCC systems to follow (e.g. PVCS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Edit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791320" y="1828440"/>
            <a:ext cx="3124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It’s an editor!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Language-aware - C and C++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Syntax colouring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Indentation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Undo/Redo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Knows about Source Control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Necessary for the futur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53910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Source Manag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2884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Buffers all the files you’ve edited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Reopen any recent file from her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257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Shell Integr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43240" y="17521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Two pane types: Shell Tree and Shell Folder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Adjacent Tree and Folder panes tied to create Windows Explorer lookalik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5638680" cy="37004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19920" y="480060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Filter the folder content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56386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Explorer Pan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91320" y="1752480"/>
            <a:ext cx="3200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Uses WebBrowser control to display HTML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Can also display Dynamic HTML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Hosts our help system!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55627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Online Help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324120" y="1752480"/>
            <a:ext cx="2667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HTML Help system with synchronised Contents and Content pane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To be updated by SN with each software version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60962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Customising Toolbars &amp; Menu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1640" y="17524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All Pro-DG object commands available to place on toolbars and menu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Menus can dock or float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Your own script commands are also availabl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3648240" cy="3238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11430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Customising The Keyboar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05520" y="18284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Each IDE command can be bound to an accelerator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Accelerators can be sequences of several key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Choose predefined maps or create/modify other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BRIEF key map included!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8769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Scripting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2880" y="1752480"/>
            <a:ext cx="3657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Write many macros in a single script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VBScript and JScript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Full access to Pro-DG object model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Scripts will be able to perform target comms in later version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4100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Visual Technolog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Build Manager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Editor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Shell Integra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Customisa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Extensibilit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How it fits with existing tool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The Power Of DHTM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4120" y="1752480"/>
            <a:ext cx="35049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Dynamic HTML - create modal dialogs and write or modify HTML pages on the fly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Used within Pro-DG for version report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Also to list all commands and accelerator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8765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Active Setup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1640" y="2666880"/>
            <a:ext cx="38098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Install and upgrade over HTTP or from CD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Upgrades only the changed component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36194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Existing Build Tool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467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Build Manager components for compiler, assembler, linker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Others (librarian, symmunge, dmpsx etc) to follow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Any component can be called from command lin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What About The Debugger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Currently must use existing Windows debugger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Debugger and file serving to be rewritten into Pro-DG, starting asap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Schedule: end of year :-)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Pick up your prescription now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33720" y="4648320"/>
            <a:ext cx="4587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Times New Roman"/>
              </a:rPr>
              <a:t>SN Systems Software Ltd</a:t>
            </a:r>
            <a:endParaRPr b="0" lang="en-US" sz="1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dddddd"/>
                </a:solidFill>
                <a:latin typeface="Times New Roman"/>
              </a:rPr>
              <a:t>Windows Programming Team:</a:t>
            </a:r>
            <a:endParaRPr b="0" lang="en-US" sz="1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Times New Roman"/>
              </a:rPr>
              <a:t>Jago Bidmead, Peter Britton, Andrew Callow, Peter Keating, Duncan Lees, John Roberts (Lead), Tim Veal</a:t>
            </a:r>
            <a:endParaRPr b="0" lang="en-US" sz="1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76" name="Prodg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095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Aims of Pro-DG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Simple to instal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Provide single environment for all our tool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Enhance “View &amp; Pane” to next genera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Make game-building easier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Integrate with everything”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Easy to maintain, configure, exten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Shorten our time-to-release for new featur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Visual Technolog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2895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View and Pane” - the sequel!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Style established in DOS and Windows debugger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This is the next generation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541008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Views and Pan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10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Each view is an MDI child window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Each view can have one or more pane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Any single pane can be zoomed to occupy its view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Resize using T-junctions and cross-junction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276800" cy="3124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76720" y="5486400"/>
            <a:ext cx="3429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05720" y="3809520"/>
            <a:ext cx="0" cy="1676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Frame Pan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2667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Like dockable toolbar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Client area reduced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Always visibl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1805040"/>
            <a:ext cx="5519880" cy="4213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00200" y="3886200"/>
            <a:ext cx="0" cy="1523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5410080"/>
            <a:ext cx="1523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Pane Targeting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10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Pane Targeting toolbar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Pick a pane type, drop it where you want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ddddd"/>
                </a:solidFill>
                <a:latin typeface="Arial"/>
              </a:rPr>
              <a:t>Create new View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ddddd"/>
                </a:solidFill>
                <a:latin typeface="Arial"/>
              </a:rPr>
              <a:t>Override existing pane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ddddd"/>
                </a:solidFill>
                <a:latin typeface="Arial"/>
              </a:rPr>
              <a:t>Split pane in two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ddddd"/>
                </a:solidFill>
                <a:latin typeface="Arial"/>
              </a:rPr>
              <a:t>Place in frame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4057920" cy="454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7360" y="2133720"/>
            <a:ext cx="1972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imes New Roman"/>
              </a:rPr>
              <a:t>Output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imes New Roman"/>
              </a:rPr>
              <a:t>Explorer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imes New Roman"/>
              </a:rPr>
              <a:t>Editor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imes New Roman"/>
              </a:rPr>
              <a:t>Source Manager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imes New Roman"/>
              </a:rPr>
              <a:t>Project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imes New Roman"/>
              </a:rPr>
              <a:t>Folders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imes New Roman"/>
              </a:rPr>
              <a:t>Shell Tree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imes New Roman"/>
              </a:rPr>
              <a:t>Shell Folder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imes New Roman"/>
              </a:rPr>
              <a:t>HTML Help Contents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dddddd"/>
                </a:solidFill>
                <a:latin typeface="Times New Roman"/>
              </a:rPr>
              <a:t>HTML Help Content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143000" y="2362320"/>
            <a:ext cx="4114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449568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3623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724280" y="312408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Pane Histor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6629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Each pane site remembers the types of panes you’ve had ther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Switch back and forth between them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History includes pane’s state, e.g.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ddddd"/>
                </a:solidFill>
                <a:latin typeface="Arial"/>
              </a:rPr>
              <a:t>which file was being edited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ddddd"/>
                </a:solidFill>
                <a:latin typeface="Arial"/>
              </a:rPr>
              <a:t>which web page was being browsed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Projec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Visualise your files and build processe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Multiple configuration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Configure settings all at onc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648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3T14:40:12Z</dcterms:created>
  <dc:creator>John Roberts</dc:creator>
  <dc:description/>
  <dc:language>en-US</dc:language>
  <cp:lastModifiedBy>SONY</cp:lastModifiedBy>
  <cp:lastPrinted>1998-06-08T14:49:02Z</cp:lastPrinted>
  <dcterms:modified xsi:type="dcterms:W3CDTF">1998-09-01T17:03:42Z</dcterms:modified>
  <cp:revision>48</cp:revision>
  <dc:subject/>
  <dc:title>SN Systems Software Ltd</dc:title>
</cp:coreProperties>
</file>